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EF6-2B10-4B11-846F-A68DDFC7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804-77BA-4214-B1BA-6F9436B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FD9-1FAC-4CAE-B8FF-0A494C5A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C81-6900-44E8-BA84-CF42DF07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426C-D765-45AB-AFA7-207558F3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7EB3-1879-49BE-A09C-AEEC280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A71D-F352-4F20-A41A-8047D8A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091-6CF0-4AF6-87DB-B2C9E9A2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2F2-9876-4CBE-8EE3-37952268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C4E-FCE7-4188-A441-72FB06B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622E-F800-4F15-B326-E135EC1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7DD-B22F-4D28-AA9B-BFE49F9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999-33F8-461C-8B7D-FE27071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2A8-EA91-4318-B6E6-7D64A2D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CD8B-6E62-4F5D-BA46-71623A2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C75C-4FD0-423C-A143-D420FA22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F69-1FA8-4CF9-97F8-41E82E33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189C-EE1C-46E4-B46B-199E728D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9A3A-684B-40DB-826A-84551DFA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B88F-2BD0-45CD-8E24-24C0A746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F51C-88B7-44BB-8896-3460FB6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48B5-F0DD-4E15-8F80-74AB60FD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452-A778-4C21-9351-A73D13BC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54F2-E9BB-4776-8893-EDA41B9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4749-F93E-467B-B467-FC5DECA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EFBD-C171-45A2-A815-7056B2D0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89CB-2CD7-4C09-9E37-433684A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8911-8D7D-44A5-AB19-A60A803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393F-7933-4DEF-AC69-F545A5B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1CBC-7F12-422B-8CC5-7BDB17F3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62DF-4ED7-43BB-B1F1-076D66EF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D229-4EC3-4ADF-8E58-9C962A0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12D1-B2AD-44B5-88B9-20FF116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913-8F12-4EF2-A1E3-C21DDE58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1244-B806-4A2C-81E0-F6694F8D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A6D2-CA24-4029-A275-48C9343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545E-69A4-4727-AAEB-89B373FD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361E-1B4B-4F3F-BB04-8FF40DC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41B4-8DA9-4501-A7BC-9F4FE6B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5F4A-8A78-4815-AE6E-6A7CA3A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3EA9-2D95-4070-8472-FDAE4F6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90CA-7965-4096-8833-64DB8BA8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F6D4-159B-4D98-9452-089B06D9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26E-FF03-446E-B273-1BC8AE84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A01-9E80-4F23-95BE-1AF4D8D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944-F9E5-4FC0-A407-1A86CD1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30B-3A0D-4E75-87A7-E4629455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70D-0DD4-4AA0-B0BE-51F2922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B32-7B5E-41DA-8CA9-507CF8ACB6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9173-75CB-4783-8434-A836AC09266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E11-0754-41AE-8693-5CBDCCC5D8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B79-73F8-4C6B-BBB7-10BF52AC85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opepodkils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U:\oceanography\marine bio\plankton ppt\coccolithophore.jpg"/>
          <p:cNvPicPr/>
          <p:nvPr/>
        </p:nvPicPr>
        <p:blipFill>
          <a:blip r:embed="rId2"/>
          <a:stretch/>
        </p:blipFill>
        <p:spPr>
          <a:xfrm>
            <a:off x="1676520" y="3352680"/>
            <a:ext cx="272088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U:\oceanography\marine bio\plankton ppt\copepod.jpg"/>
          <p:cNvPicPr/>
          <p:nvPr/>
        </p:nvPicPr>
        <p:blipFill>
          <a:blip r:embed="rId3"/>
          <a:stretch/>
        </p:blipFill>
        <p:spPr>
          <a:xfrm>
            <a:off x="0" y="1219320"/>
            <a:ext cx="1650960" cy="1600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U:\oceanography\marine bio\plankton ppt\dinoflag.jpg"/>
          <p:cNvPicPr/>
          <p:nvPr/>
        </p:nvPicPr>
        <p:blipFill>
          <a:blip r:embed="rId4"/>
          <a:stretch/>
        </p:blipFill>
        <p:spPr>
          <a:xfrm>
            <a:off x="4876920" y="3962520"/>
            <a:ext cx="3504960" cy="210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U:\oceanography\marine bio\plankton ppt\siphonophore 2.jpg"/>
          <p:cNvPicPr/>
          <p:nvPr/>
        </p:nvPicPr>
        <p:blipFill>
          <a:blip r:embed="rId5"/>
          <a:stretch/>
        </p:blipFill>
        <p:spPr>
          <a:xfrm>
            <a:off x="2438280" y="152280"/>
            <a:ext cx="17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U:\oceanography\marine bio\plankton ppt\Cyanobacteria_1.jpg"/>
          <p:cNvPicPr/>
          <p:nvPr/>
        </p:nvPicPr>
        <p:blipFill>
          <a:blip r:embed="rId6"/>
          <a:stretch/>
        </p:blipFill>
        <p:spPr>
          <a:xfrm>
            <a:off x="5867280" y="380880"/>
            <a:ext cx="17002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U:\oceanography\marine bio\plankton ppt\La-Jolla-Red-Tide.jpg"/>
          <p:cNvPicPr/>
          <p:nvPr/>
        </p:nvPicPr>
        <p:blipFill>
          <a:blip r:embed="rId1"/>
          <a:stretch/>
        </p:blipFill>
        <p:spPr>
          <a:xfrm>
            <a:off x="457200" y="1905120"/>
            <a:ext cx="5241960" cy="3682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noflagellates are also responsible for “red tid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U:\oceanography\marine bio\plankton ppt\dinflagellates.jpg"/>
          <p:cNvPicPr/>
          <p:nvPr/>
        </p:nvPicPr>
        <p:blipFill>
          <a:blip r:embed="rId2"/>
          <a:stretch/>
        </p:blipFill>
        <p:spPr>
          <a:xfrm>
            <a:off x="4038480" y="3505320"/>
            <a:ext cx="4318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ooplankton (heterotrophic animals and protist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an be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holoplan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(whole life as plankton) or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meroplan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(larval forms of </a:t>
            </a: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nekto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U:\oceanography\marine bio\plankton ppt\siphonophore.jpg"/>
          <p:cNvPicPr/>
          <p:nvPr/>
        </p:nvPicPr>
        <p:blipFill>
          <a:blip r:embed="rId1"/>
          <a:stretch/>
        </p:blipFill>
        <p:spPr>
          <a:xfrm>
            <a:off x="5486400" y="380880"/>
            <a:ext cx="3346560" cy="4721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ellyfish and siphon</a:t>
            </a:r>
            <a:r>
              <a:rPr b="0" lang="en-US" sz="5000" spc="-1" strike="noStrike">
                <a:solidFill>
                  <a:srgbClr val="b0dfa1"/>
                </a:solidFill>
                <a:latin typeface="Calibri"/>
              </a:rPr>
              <a:t>opho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U:\oceanography\marine bio\plankton ppt\siphonophore 2.jpg"/>
          <p:cNvPicPr/>
          <p:nvPr/>
        </p:nvPicPr>
        <p:blipFill>
          <a:blip r:embed="rId2"/>
          <a:stretch/>
        </p:blipFill>
        <p:spPr>
          <a:xfrm>
            <a:off x="380880" y="1905120"/>
            <a:ext cx="4391280" cy="379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U:\oceanography\marine bio\plankton ppt\ctenophore.jpg"/>
          <p:cNvPicPr/>
          <p:nvPr/>
        </p:nvPicPr>
        <p:blipFill>
          <a:blip r:embed="rId3"/>
          <a:stretch/>
        </p:blipFill>
        <p:spPr>
          <a:xfrm>
            <a:off x="4343400" y="2666880"/>
            <a:ext cx="25700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ooflagellates and cilli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U:\oceanography\marine bio\plankton ppt\zooflag.jpg"/>
          <p:cNvPicPr/>
          <p:nvPr/>
        </p:nvPicPr>
        <p:blipFill>
          <a:blip r:embed="rId1"/>
          <a:stretch/>
        </p:blipFill>
        <p:spPr>
          <a:xfrm>
            <a:off x="1289160" y="236232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aminife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ium shells mak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oz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which makes chalk and limest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U:\oceanography\marine bio\plankton ppt\p-forminifera-m.jpg"/>
          <p:cNvPicPr/>
          <p:nvPr/>
        </p:nvPicPr>
        <p:blipFill>
          <a:blip r:embed="rId1"/>
          <a:stretch/>
        </p:blipFill>
        <p:spPr>
          <a:xfrm>
            <a:off x="2971800" y="25146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diolari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lica shells also contribute to ooz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2" descr="U:\oceanography\marine bio\plankton ppt\radiolarian.jpg"/>
          <p:cNvPicPr/>
          <p:nvPr/>
        </p:nvPicPr>
        <p:blipFill>
          <a:blip r:embed="rId1"/>
          <a:stretch/>
        </p:blipFill>
        <p:spPr>
          <a:xfrm>
            <a:off x="609480" y="2514600"/>
            <a:ext cx="3676680" cy="27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U:\oceanography\marine bio\plankton ppt\radiolarian skeletons.jpg"/>
          <p:cNvPicPr/>
          <p:nvPr/>
        </p:nvPicPr>
        <p:blipFill>
          <a:blip r:embed="rId2"/>
          <a:stretch/>
        </p:blipFill>
        <p:spPr>
          <a:xfrm>
            <a:off x="5943600" y="457200"/>
            <a:ext cx="2957400" cy="350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U:\oceanography\marine bio\plankton ppt\radiolarian colony.jpg"/>
          <p:cNvPicPr/>
          <p:nvPr/>
        </p:nvPicPr>
        <p:blipFill>
          <a:blip r:embed="rId3"/>
          <a:stretch/>
        </p:blipFill>
        <p:spPr>
          <a:xfrm>
            <a:off x="4800600" y="3886200"/>
            <a:ext cx="3562200" cy="2325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U:\oceanography\marine bio\plankton ppt\radiolarian_02.jpg"/>
          <p:cNvPicPr/>
          <p:nvPr/>
        </p:nvPicPr>
        <p:blipFill>
          <a:blip r:embed="rId4"/>
          <a:stretch/>
        </p:blipFill>
        <p:spPr>
          <a:xfrm>
            <a:off x="2438280" y="48769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U:\oceanography\marine bio\plankton ppt\ostracod.jpg"/>
          <p:cNvPicPr/>
          <p:nvPr/>
        </p:nvPicPr>
        <p:blipFill>
          <a:blip r:embed="rId1"/>
          <a:stretch/>
        </p:blipFill>
        <p:spPr>
          <a:xfrm>
            <a:off x="6095880" y="3962520"/>
            <a:ext cx="2776680" cy="24476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ustac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ex. Krill and copepo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U:\oceanography\marine bio\plankton ppt\copepod.jpg"/>
          <p:cNvPicPr/>
          <p:nvPr/>
        </p:nvPicPr>
        <p:blipFill>
          <a:blip r:embed="rId2"/>
          <a:stretch/>
        </p:blipFill>
        <p:spPr>
          <a:xfrm>
            <a:off x="457200" y="2590920"/>
            <a:ext cx="3905280" cy="3784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U:\oceanography\marine bio\plankton ppt\krill.jpg"/>
          <p:cNvPicPr/>
          <p:nvPr/>
        </p:nvPicPr>
        <p:blipFill>
          <a:blip r:embed="rId3"/>
          <a:stretch/>
        </p:blipFill>
        <p:spPr>
          <a:xfrm>
            <a:off x="4419720" y="1371600"/>
            <a:ext cx="4419360" cy="1816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U:\oceanography\marine bio\plankton ppt\plankton.jpg"/>
          <p:cNvPicPr/>
          <p:nvPr/>
        </p:nvPicPr>
        <p:blipFill>
          <a:blip r:embed="rId4"/>
          <a:stretch/>
        </p:blipFill>
        <p:spPr>
          <a:xfrm>
            <a:off x="4267080" y="4191120"/>
            <a:ext cx="2135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4617b"/>
                </a:solidFill>
                <a:latin typeface="Calibri"/>
              </a:rPr>
              <a:t>Nekton Larvae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Echinoderm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spiny skin, radial symmetry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Mollusk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muscle foot, mantle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Arthropods(crustacean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, jointed foots, exoskeleton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Annelid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worms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Chordates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(have backbones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hinod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starfi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U:\oceanography\marine bio\plankton ppt\echinolarva.jpg"/>
          <p:cNvPicPr/>
          <p:nvPr/>
        </p:nvPicPr>
        <p:blipFill>
          <a:blip r:embed="rId1"/>
          <a:stretch/>
        </p:blipFill>
        <p:spPr>
          <a:xfrm>
            <a:off x="4025880" y="1219320"/>
            <a:ext cx="5118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llusk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octop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U:\oceanography\marine bio\plankton ppt\Larval-octopus.jpg"/>
          <p:cNvPicPr/>
          <p:nvPr/>
        </p:nvPicPr>
        <p:blipFill>
          <a:blip r:embed="rId1"/>
          <a:stretch/>
        </p:blipFill>
        <p:spPr>
          <a:xfrm>
            <a:off x="3429000" y="304920"/>
            <a:ext cx="42861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They are plankton (organisms that drift)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upload.wikimedia.org/wikipedia/commons/thumb/2/28/Copepodkils.jpg/200px-Copepodk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ustacea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val barna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U:\oceanography\marine bio\plankton ppt\larval barnacle.jpg"/>
          <p:cNvPicPr/>
          <p:nvPr/>
        </p:nvPicPr>
        <p:blipFill>
          <a:blip r:embed="rId1"/>
          <a:stretch/>
        </p:blipFill>
        <p:spPr>
          <a:xfrm>
            <a:off x="3124080" y="1828800"/>
            <a:ext cx="5727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2" descr="U:\oceanography\marine bio\plankton ppt\larval flounder.jpg"/>
          <p:cNvPicPr/>
          <p:nvPr/>
        </p:nvPicPr>
        <p:blipFill>
          <a:blip r:embed="rId1"/>
          <a:srcRect l="0" t="0" r="0" b="8471"/>
          <a:stretch/>
        </p:blipFill>
        <p:spPr>
          <a:xfrm>
            <a:off x="4572000" y="1447920"/>
            <a:ext cx="31496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U:\oceanography\marine bio\plankton ppt\filetPlancton.jpg"/>
          <p:cNvPicPr/>
          <p:nvPr/>
        </p:nvPicPr>
        <p:blipFill>
          <a:blip r:embed="rId1"/>
          <a:stretch/>
        </p:blipFill>
        <p:spPr>
          <a:xfrm>
            <a:off x="2525760" y="2362320"/>
            <a:ext cx="6618240" cy="3790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U:\oceanography\marine bio\plankton ppt\plankton_pumpmooring_84633.jpg"/>
          <p:cNvPicPr/>
          <p:nvPr/>
        </p:nvPicPr>
        <p:blipFill>
          <a:blip r:embed="rId2"/>
          <a:stretch/>
        </p:blipFill>
        <p:spPr>
          <a:xfrm>
            <a:off x="6649920" y="304920"/>
            <a:ext cx="2494080" cy="3429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s of plankton col</a:t>
            </a:r>
            <a:r>
              <a:rPr b="0" lang="en-US" sz="5000" spc="-1" strike="noStrike">
                <a:solidFill>
                  <a:srgbClr val="06686d"/>
                </a:solidFill>
                <a:latin typeface="Calibri"/>
              </a:rPr>
              <a:t>le</a:t>
            </a:r>
            <a:r>
              <a:rPr b="0" lang="en-US" sz="5000" spc="-1" strike="noStrike">
                <a:solidFill>
                  <a:srgbClr val="5ef0f7"/>
                </a:solidFill>
                <a:latin typeface="Calibri"/>
              </a:rPr>
              <a:t>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U:\oceanography\marine bio\plankton ppt\plankton net.jpg"/>
          <p:cNvPicPr/>
          <p:nvPr/>
        </p:nvPicPr>
        <p:blipFill>
          <a:blip r:embed="rId3"/>
          <a:stretch/>
        </p:blipFill>
        <p:spPr>
          <a:xfrm>
            <a:off x="304920" y="2514600"/>
            <a:ext cx="30556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hytoplankt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otrophic by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st stay in photic z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ccolithoph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lcium carbon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U:\oceanography\marine bio\plankton ppt\coccolithophore.jpg"/>
          <p:cNvPicPr/>
          <p:nvPr/>
        </p:nvPicPr>
        <p:blipFill>
          <a:blip r:embed="rId1"/>
          <a:stretch/>
        </p:blipFill>
        <p:spPr>
          <a:xfrm>
            <a:off x="3657600" y="1981080"/>
            <a:ext cx="50799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U:\oceanography\marine bio\plankton ppt\Cyanobacteria_1.jpg"/>
          <p:cNvPicPr/>
          <p:nvPr/>
        </p:nvPicPr>
        <p:blipFill>
          <a:blip r:embed="rId1"/>
          <a:stretch/>
        </p:blipFill>
        <p:spPr>
          <a:xfrm>
            <a:off x="4068720" y="2209680"/>
            <a:ext cx="5075280" cy="3789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yanobacteria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a.k.a. blue green alga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s 50-90% of world’s oxy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hotosynthetic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ms can cre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hypox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U:\oceanography\marine bio\plankton ppt\cyanobacteria bloom.jpg"/>
          <p:cNvPicPr/>
          <p:nvPr/>
        </p:nvPicPr>
        <p:blipFill>
          <a:blip r:embed="rId2"/>
          <a:stretch/>
        </p:blipFill>
        <p:spPr>
          <a:xfrm>
            <a:off x="152280" y="35053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ato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lica sh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U:\oceanography\marine bio\plankton ppt\Diatom group.jpg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343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U:\oceanography\marine bio\plankton ppt\diatom frustule.jpg"/>
          <p:cNvPicPr/>
          <p:nvPr/>
        </p:nvPicPr>
        <p:blipFill>
          <a:blip r:embed="rId2"/>
          <a:stretch/>
        </p:blipFill>
        <p:spPr>
          <a:xfrm>
            <a:off x="4114800" y="380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U:\oceanography\marine bio\plankton ppt\diatom-paint-540x540.jpg"/>
          <p:cNvPicPr/>
          <p:nvPr/>
        </p:nvPicPr>
        <p:blipFill>
          <a:blip r:embed="rId3"/>
          <a:stretch/>
        </p:blipFill>
        <p:spPr>
          <a:xfrm>
            <a:off x="2895480" y="3886200"/>
            <a:ext cx="28069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noflagell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flagella to swim toward 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biolumines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U:\oceanography\marine bio\plankton ppt\dinoflag.jpg"/>
          <p:cNvPicPr/>
          <p:nvPr/>
        </p:nvPicPr>
        <p:blipFill>
          <a:blip r:embed="rId1"/>
          <a:stretch/>
        </p:blipFill>
        <p:spPr>
          <a:xfrm>
            <a:off x="380880" y="2819520"/>
            <a:ext cx="5486400" cy="328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U:\oceanography\marine bio\plankton ppt\flourescent finoflag.jpg"/>
          <p:cNvPicPr/>
          <p:nvPr/>
        </p:nvPicPr>
        <p:blipFill>
          <a:blip r:embed="rId2"/>
          <a:stretch/>
        </p:blipFill>
        <p:spPr>
          <a:xfrm>
            <a:off x="5551560" y="457200"/>
            <a:ext cx="3363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 can “firefly squid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U:\oceanography\marine bio\plankton ppt\firefly_squid.jpg"/>
          <p:cNvPicPr/>
          <p:nvPr/>
        </p:nvPicPr>
        <p:blipFill>
          <a:blip r:embed="rId1"/>
          <a:stretch/>
        </p:blipFill>
        <p:spPr>
          <a:xfrm>
            <a:off x="1066680" y="2438280"/>
            <a:ext cx="59436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07:17Z</dcterms:created>
  <dc:creator>Narragansett School System</dc:creator>
  <dc:description/>
  <dc:language>en-US</dc:language>
  <cp:lastModifiedBy>Narragansett School System</cp:lastModifiedBy>
  <dcterms:modified xsi:type="dcterms:W3CDTF">2009-05-06T15:29:39Z</dcterms:modified>
  <cp:revision>11</cp:revision>
  <dc:subject/>
  <dc:title>What do these organisms have in common?</dc:title>
</cp:coreProperties>
</file>